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A86-2170-4E06-BDCD-3251DC10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041-326C-463B-AC43-839A7AAA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DDC-6A5F-4278-A6AF-3128677D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EC7-880B-4F10-A401-CD2F76EE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75F-327F-4534-89FB-41BB049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FFC-8C49-44FB-B64F-886F90B0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AFE-211D-4365-901F-D321A9F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4DF-ADAA-40E8-8F23-1AE4CBCC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571-CE95-4693-9C67-1F1117DD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4B7-FC26-41E0-93D2-7EE97DA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61C-77CB-4EC5-AD8B-916FF98C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658-07C8-479E-91AB-0ED840C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18A-91B4-4E3A-930D-B0ABAA2BA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42840" y="-23760"/>
            <a:ext cx="9205920" cy="69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1"/>
          <p:cNvSpPr/>
          <p:nvPr/>
        </p:nvSpPr>
        <p:spPr>
          <a:xfrm>
            <a:off x="1219320" y="1066680"/>
            <a:ext cx="7380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ngl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ne stator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ngle-phase power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quire device to start m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3 to 4 HP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ousehold appliances: fans, washing machines, dryers, mixers , wet grinders 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2"/>
          <p:cNvSpPr/>
          <p:nvPr/>
        </p:nvSpPr>
        <p:spPr>
          <a:xfrm>
            <a:off x="1447920" y="1066680"/>
            <a:ext cx="68752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re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Three-phase supply produces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or w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elf-sta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1/3 to hundreds HP applications: pumps, compressors, conveyor belts, grin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70% of motors in industr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"/>
          <p:cNvSpPr/>
          <p:nvPr/>
        </p:nvSpPr>
        <p:spPr>
          <a:xfrm>
            <a:off x="1066680" y="2133720"/>
            <a:ext cx="698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ance single phase loads equally among three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gregate single phase loads and feed them into separate line/transfo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295280" y="1096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Improve Pow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"/>
          <p:cNvSpPr/>
          <p:nvPr/>
        </p:nvSpPr>
        <p:spPr>
          <a:xfrm>
            <a:off x="609480" y="228600"/>
            <a:ext cx="824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xe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riction and 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ray loa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49604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TextBox 5"/>
          <p:cNvSpPr/>
          <p:nvPr/>
        </p:nvSpPr>
        <p:spPr>
          <a:xfrm>
            <a:off x="1481040" y="762120"/>
            <a:ext cx="61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Losses in induction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"/>
          <p:cNvSpPr/>
          <p:nvPr/>
        </p:nvSpPr>
        <p:spPr>
          <a:xfrm>
            <a:off x="609480" y="762120"/>
            <a:ext cx="80773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25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ctors that influenc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0"/>
          <p:cNvSpPr/>
          <p:nvPr/>
        </p:nvSpPr>
        <p:spPr>
          <a:xfrm>
            <a:off x="380880" y="380880"/>
            <a:ext cx="612144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tor part loa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signed for 50-10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ost efficient at 75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apid drop below 5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1"/>
          <a:srcRect l="0" t="0" r="0" b="27917"/>
          <a:stretch/>
        </p:blipFill>
        <p:spPr>
          <a:xfrm>
            <a:off x="3048120" y="27432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"/>
          <p:cNvSpPr/>
          <p:nvPr/>
        </p:nvSpPr>
        <p:spPr>
          <a:xfrm>
            <a:off x="1219320" y="1600200"/>
            <a:ext cx="6984720" cy="3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spect motors regularly for wear, dirt/d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ing motor loads for over/under lo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ubricate appropr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 alignment of motor and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Provide proper vent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295280" y="10666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"/>
          <p:cNvSpPr/>
          <p:nvPr/>
        </p:nvSpPr>
        <p:spPr>
          <a:xfrm>
            <a:off x="1295280" y="9144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peed Control of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600200" y="1981080"/>
            <a:ext cx="72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speed drives (VS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be installed in exis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lti-speed mo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600200" y="3962520"/>
            <a:ext cx="723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ound rotor motor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resistors to control torqu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1828800" y="426600"/>
            <a:ext cx="70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371600" y="1447920"/>
            <a:ext cx="7451640" cy="28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ectromechanical device that converts electrical energy to mechanic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echanical energy used to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otate pump impeller, fan, bl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rive compres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ft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1"/>
          <p:cNvSpPr/>
          <p:nvPr/>
        </p:nvSpPr>
        <p:spPr>
          <a:xfrm>
            <a:off x="838080" y="304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How Does an Electric Moto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D:\USER\GARNAIK\How a motor works_files\mothow.gif"/>
          <p:cNvPicPr/>
          <p:nvPr/>
        </p:nvPicPr>
        <p:blipFill>
          <a:blip r:embed="rId1"/>
          <a:stretch/>
        </p:blipFill>
        <p:spPr>
          <a:xfrm>
            <a:off x="914400" y="1246320"/>
            <a:ext cx="6753240" cy="544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1752480" y="3808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lassification of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5"/>
          <p:cNvGrpSpPr/>
          <p:nvPr/>
        </p:nvGrpSpPr>
        <p:grpSpPr>
          <a:xfrm>
            <a:off x="870120" y="1600200"/>
            <a:ext cx="7435800" cy="4495680"/>
            <a:chOff x="870120" y="1600200"/>
            <a:chExt cx="7435800" cy="4495680"/>
          </a:xfrm>
        </p:grpSpPr>
        <p:sp>
          <p:nvSpPr>
            <p:cNvPr id="48" name="AutoShape 86"/>
            <p:cNvSpPr/>
            <p:nvPr/>
          </p:nvSpPr>
          <p:spPr>
            <a:xfrm>
              <a:off x="870120" y="1600200"/>
              <a:ext cx="74358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7"/>
            <p:cNvSpPr/>
            <p:nvPr/>
          </p:nvSpPr>
          <p:spPr>
            <a:xfrm>
              <a:off x="3478680" y="1600200"/>
              <a:ext cx="2543760" cy="614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ectric Moto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8"/>
            <p:cNvSpPr/>
            <p:nvPr/>
          </p:nvSpPr>
          <p:spPr>
            <a:xfrm>
              <a:off x="1325880" y="2773440"/>
              <a:ext cx="254376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lternating Current (A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9"/>
            <p:cNvSpPr/>
            <p:nvPr/>
          </p:nvSpPr>
          <p:spPr>
            <a:xfrm>
              <a:off x="5566320" y="2773440"/>
              <a:ext cx="228348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rect Current (D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90"/>
            <p:cNvSpPr/>
            <p:nvPr/>
          </p:nvSpPr>
          <p:spPr>
            <a:xfrm>
              <a:off x="870120" y="4280760"/>
              <a:ext cx="156600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ynchron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1"/>
            <p:cNvSpPr/>
            <p:nvPr/>
          </p:nvSpPr>
          <p:spPr>
            <a:xfrm>
              <a:off x="2760840" y="4280760"/>
              <a:ext cx="137016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92"/>
            <p:cNvSpPr/>
            <p:nvPr/>
          </p:nvSpPr>
          <p:spPr>
            <a:xfrm>
              <a:off x="2542320" y="5622480"/>
              <a:ext cx="15890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re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3"/>
            <p:cNvSpPr/>
            <p:nvPr/>
          </p:nvSpPr>
          <p:spPr>
            <a:xfrm>
              <a:off x="870120" y="5622480"/>
              <a:ext cx="15768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ngl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4"/>
            <p:cNvSpPr/>
            <p:nvPr/>
          </p:nvSpPr>
          <p:spPr>
            <a:xfrm>
              <a:off x="69357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lf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5"/>
            <p:cNvSpPr/>
            <p:nvPr/>
          </p:nvSpPr>
          <p:spPr>
            <a:xfrm>
              <a:off x="46533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parately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6"/>
            <p:cNvSpPr/>
            <p:nvPr/>
          </p:nvSpPr>
          <p:spPr>
            <a:xfrm>
              <a:off x="465336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7"/>
            <p:cNvSpPr/>
            <p:nvPr/>
          </p:nvSpPr>
          <p:spPr>
            <a:xfrm>
              <a:off x="732672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AutoShape 98"/>
            <p:cNvCxnSpPr>
              <a:stCxn id="49" idx="2"/>
              <a:endCxn id="50" idx="0"/>
            </p:cNvCxnSpPr>
            <p:nvPr/>
          </p:nvCxnSpPr>
          <p:spPr>
            <a:xfrm rot="5400000">
              <a:off x="3394800" y="1417680"/>
              <a:ext cx="559080" cy="2153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99"/>
            <p:cNvCxnSpPr>
              <a:stCxn id="49" idx="2"/>
              <a:endCxn id="51" idx="0"/>
            </p:cNvCxnSpPr>
            <p:nvPr/>
          </p:nvCxnSpPr>
          <p:spPr>
            <a:xfrm flipH="1" rot="16200000">
              <a:off x="5450400" y="1515240"/>
              <a:ext cx="559080" cy="195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100"/>
            <p:cNvCxnSpPr>
              <a:stCxn id="50" idx="2"/>
              <a:endCxn id="52" idx="0"/>
            </p:cNvCxnSpPr>
            <p:nvPr/>
          </p:nvCxnSpPr>
          <p:spPr>
            <a:xfrm rot="5400000">
              <a:off x="1856160" y="3538440"/>
              <a:ext cx="539280" cy="945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101"/>
            <p:cNvCxnSpPr>
              <a:stCxn id="50" idx="2"/>
              <a:endCxn id="53" idx="0"/>
            </p:cNvCxnSpPr>
            <p:nvPr/>
          </p:nvCxnSpPr>
          <p:spPr>
            <a:xfrm flipH="1" rot="16200000">
              <a:off x="2752560" y="3586320"/>
              <a:ext cx="539280" cy="8492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102"/>
            <p:cNvCxnSpPr>
              <a:stCxn id="53" idx="2"/>
              <a:endCxn id="54" idx="0"/>
            </p:cNvCxnSpPr>
            <p:nvPr/>
          </p:nvCxnSpPr>
          <p:spPr>
            <a:xfrm rot="5400000">
              <a:off x="2957400" y="5133600"/>
              <a:ext cx="867960" cy="110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103"/>
            <p:cNvCxnSpPr>
              <a:stCxn id="53" idx="2"/>
              <a:endCxn id="55" idx="0"/>
            </p:cNvCxnSpPr>
            <p:nvPr/>
          </p:nvCxnSpPr>
          <p:spPr>
            <a:xfrm rot="5400000">
              <a:off x="2117880" y="4294080"/>
              <a:ext cx="867960" cy="1789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104"/>
            <p:cNvCxnSpPr>
              <a:stCxn id="51" idx="2"/>
              <a:endCxn id="57" idx="0"/>
            </p:cNvCxnSpPr>
            <p:nvPr/>
          </p:nvCxnSpPr>
          <p:spPr>
            <a:xfrm rot="5400000">
              <a:off x="5753880" y="3326400"/>
              <a:ext cx="539280" cy="13694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AutoShape 105"/>
            <p:cNvCxnSpPr>
              <a:stCxn id="51" idx="2"/>
              <a:endCxn id="56" idx="0"/>
            </p:cNvCxnSpPr>
            <p:nvPr/>
          </p:nvCxnSpPr>
          <p:spPr>
            <a:xfrm flipH="1" rot="16200000">
              <a:off x="6895440" y="3553920"/>
              <a:ext cx="539280" cy="9136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AutoShape 106"/>
            <p:cNvCxnSpPr>
              <a:stCxn id="56" idx="2"/>
              <a:endCxn id="58" idx="0"/>
            </p:cNvCxnSpPr>
            <p:nvPr/>
          </p:nvCxnSpPr>
          <p:spPr>
            <a:xfrm rot="5400000">
              <a:off x="6125400" y="4126680"/>
              <a:ext cx="514080" cy="24782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AutoShape 107"/>
            <p:cNvCxnSpPr>
              <a:stCxn id="56" idx="2"/>
              <a:endCxn id="59" idx="0"/>
            </p:cNvCxnSpPr>
            <p:nvPr/>
          </p:nvCxnSpPr>
          <p:spPr>
            <a:xfrm flipH="1" rot="16200000">
              <a:off x="7461720" y="5267520"/>
              <a:ext cx="514080" cy="19620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Text Box 108"/>
            <p:cNvSpPr/>
            <p:nvPr/>
          </p:nvSpPr>
          <p:spPr>
            <a:xfrm>
              <a:off x="5828400" y="5622480"/>
              <a:ext cx="13478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AutoShape 109"/>
            <p:cNvCxnSpPr>
              <a:stCxn id="56" idx="2"/>
              <a:endCxn id="70" idx="0"/>
            </p:cNvCxnSpPr>
            <p:nvPr/>
          </p:nvCxnSpPr>
          <p:spPr>
            <a:xfrm rot="5400000">
              <a:off x="6803640" y="4806000"/>
              <a:ext cx="515160" cy="1118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0"/>
          <p:cNvSpPr/>
          <p:nvPr/>
        </p:nvSpPr>
        <p:spPr>
          <a:xfrm>
            <a:off x="1143000" y="1752480"/>
            <a:ext cx="752472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eld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North pole and south p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ceive electricity to form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ylinder between the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lectromagnet when current goes through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nked to drive shaft to drive the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u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verturns current direction in arm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4300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DC Motors –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0"/>
          <p:cNvSpPr/>
          <p:nvPr/>
        </p:nvSpPr>
        <p:spPr>
          <a:xfrm>
            <a:off x="1295280" y="1600200"/>
            <a:ext cx="7452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tant speed fixed by system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C for excitation and low starting torque: suited for low loa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improve power factor: suited for high electricity u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ynchronous speed (N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447920" y="76212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Synchronous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981080" y="5638680"/>
            <a:ext cx="251964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Ns = 120 f /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952880" y="5638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 = supply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 = number of 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1908000" y="2367000"/>
            <a:ext cx="6985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st common motors in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mpl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to weight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asy to main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irect connection to AC power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903320" y="14842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6"/>
          <p:cNvSpPr/>
          <p:nvPr/>
        </p:nvSpPr>
        <p:spPr>
          <a:xfrm>
            <a:off x="1066680" y="1600200"/>
            <a:ext cx="5977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: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onducting bars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 parallel s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rotor: 3-phase, double-layer, distributed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76212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0" descr="abbf2"/>
          <p:cNvPicPr/>
          <p:nvPr/>
        </p:nvPicPr>
        <p:blipFill>
          <a:blip r:embed="rId1"/>
          <a:stretch/>
        </p:blipFill>
        <p:spPr>
          <a:xfrm>
            <a:off x="4419720" y="1725480"/>
            <a:ext cx="4592520" cy="2237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1"/>
          <p:cNvSpPr/>
          <p:nvPr/>
        </p:nvSpPr>
        <p:spPr>
          <a:xfrm>
            <a:off x="1219320" y="5105520"/>
            <a:ext cx="72356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tampings with slots to carry 3-phase w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for definite number of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2"/>
          <p:cNvSpPr/>
          <p:nvPr/>
        </p:nvSpPr>
        <p:spPr>
          <a:xfrm>
            <a:off x="1066680" y="685800"/>
            <a:ext cx="705672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w induction motor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ectricity supplied to st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gnetic field generated that moves ar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urrent induced in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5029200" y="2743200"/>
            <a:ext cx="3962160" cy="3885840"/>
            <a:chOff x="5029200" y="2743200"/>
            <a:chExt cx="3962160" cy="3885840"/>
          </a:xfrm>
        </p:grpSpPr>
        <p:pic>
          <p:nvPicPr>
            <p:cNvPr id="86" name="Picture 14" descr="D:\USER\GARNAIK\Reliance Electric - Basic Motor Theory_files\mtfig8.gif"/>
            <p:cNvPicPr/>
            <p:nvPr/>
          </p:nvPicPr>
          <p:blipFill>
            <a:blip r:embed="rId1"/>
            <a:stretch/>
          </p:blipFill>
          <p:spPr>
            <a:xfrm>
              <a:off x="5029200" y="2743200"/>
              <a:ext cx="3962160" cy="38858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87" name="Text Box 15"/>
            <p:cNvSpPr/>
            <p:nvPr/>
          </p:nvSpPr>
          <p:spPr>
            <a:xfrm>
              <a:off x="6437520" y="2765520"/>
              <a:ext cx="1642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lectromagne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6"/>
            <p:cNvSpPr/>
            <p:nvPr/>
          </p:nvSpPr>
          <p:spPr>
            <a:xfrm>
              <a:off x="6431400" y="6191640"/>
              <a:ext cx="9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St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7"/>
            <p:cNvSpPr/>
            <p:nvPr/>
          </p:nvSpPr>
          <p:spPr>
            <a:xfrm>
              <a:off x="7530480" y="5728320"/>
              <a:ext cx="816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Ro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8"/>
          <p:cNvSpPr/>
          <p:nvPr/>
        </p:nvSpPr>
        <p:spPr>
          <a:xfrm>
            <a:off x="990720" y="3733920"/>
            <a:ext cx="388764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produces second magnetic field that opposes stator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begins to ro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4:20:03Z</dcterms:created>
  <dc:creator/>
  <dc:description>Electrical Projects</dc:description>
  <dc:language>en-US</dc:language>
  <cp:lastModifiedBy>Brigade</cp:lastModifiedBy>
  <dcterms:modified xsi:type="dcterms:W3CDTF">2011-08-24T09:12:24Z</dcterms:modified>
  <cp:revision>0</cp:revision>
  <dc:subject>Electrical Projects</dc:subject>
  <dc:title>EEE IEEE Projects</dc:title>
</cp:coreProperties>
</file>